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BE16-D7FA-49F4-A260-F8BE2417B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D489-5BB8-4544-9770-8F0854D2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3E3EB1-5F3C-4DCC-82F5-E0E1DFD5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0C01E-C73C-4B8C-B9E0-26CBB15C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5FB91-8613-475D-B182-9CB3D702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E8949-7E0E-4CCE-A1A1-7E182D0F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613E6-B444-4AA0-868F-37F4A9A4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9CA70-07CA-4A4D-AEE3-ED8A81F0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0D906-6366-4F9A-AB6A-B7662A4F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3C9D1-3D19-415A-A70E-C0A957FCC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064A7-D940-4E10-A4E3-AC9B6D1C0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D7BD8E-0CBE-43EE-8C96-EE9F2035C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5A3C-250D-4792-96EE-1D183DEA2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7E0B62-C236-4BD6-AC92-9AA4E77F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4A6AED-0C83-4EC1-BBA8-E8CFEB59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3082F-EE74-40D2-B04C-59942275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C7C3E-9D4E-4932-A161-2A2C2F95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7DF4F-9564-40C6-AEF3-53ADF3CB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A233B-A94C-4319-8D11-95779871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0F01E-8B26-4229-B7B2-20D696D0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922496-4045-46E4-A92B-ED9B4E02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A8CC4-55CB-4AD5-B079-AD4647D9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8F77B-0E7F-4F9B-9C50-A87572604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2F2C-F757-4E9F-99AE-478051F74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9BEC7E-FA8E-4D1E-9EFB-8E28595AD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8AD9C-BC91-45E3-A459-12AA508B0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9AD75-1692-49AD-A7DF-6DC14F60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17854-90AF-41D1-850D-D4CBBDA3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3F296-B8B7-40FA-B43D-E0E164FC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ACAD7-BA71-45B1-A883-F199553E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22497-2977-4A3E-ADDC-D490BB18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67F7D-BC25-48C4-A173-6D23EEC7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3ABD4-BD90-4633-8BE2-A101990C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F1C31-D68F-4375-B24C-D4D977B7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0083-DCBF-4820-81BF-10CC75E36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32E31-8A39-4B93-ACB9-F2D9F746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69EC3-3591-4B75-992D-97C287093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72940-20DE-4F07-9243-D85727662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0CA8ED-799D-4B3A-8B0B-F27940E92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3A1343-0A63-4642-BE03-D3A41077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B8D93A-3262-481C-A714-63C7DE98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5B8863-30EC-40D1-9C24-03D1C64D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167234-95C5-4ECB-AF77-C623BDC9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2C45EF-3BA6-46DF-B614-62D133AC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6A107A-4298-43C9-9C43-4DCCB84B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4998-5357-4E82-A72C-22F0CCA6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F8F6A2-75E2-423F-B661-B48513B2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67F4A3-52BE-4E25-BD02-3334EAF5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85398E-8E39-437D-B89A-C580C873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25B651-6D67-46C4-97D9-9391FCD19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EAA816-CFAF-49C8-B5BF-7B86070BF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F8268E-6D02-4589-8270-E7609C38D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C5081D-A885-41A4-9D12-33B418B0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52C3BE-DBD1-4343-9561-453E939D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26EA64-FAE3-40A4-8906-1040197A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E48D64-B0D6-4820-8156-E33BFFAF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0739-19EC-4012-990F-E17C8630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CAD4E9-0126-495F-9B79-4DCBCC78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4E912F-1C33-4EFE-BC24-32E4E769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F067CD-7990-419F-BB1C-8EAC7147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C06162-EE79-4919-A9B8-000634ED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3395E3-38E2-42D4-BB08-05D71E9A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225E04-1BF0-4CD2-AE1E-F3AE1FC58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45E9E2-8DE4-4DB1-AA83-8F3D67E32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DA2272-7640-47EF-8E0A-E0AFB457D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445090-D47B-4ABD-9E52-8119E0B1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47EB12-61FB-4F02-BD73-1139DB6F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79D4-78C5-4E2B-80DC-17BEF51E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2BD37D-7426-4123-BD5A-B5C69E03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F40580-69A6-440E-AFE0-47AD96C3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0AF876-9B76-48D9-8A2C-A3CC3F42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9F1E07-FE28-4BFA-A277-65A97F26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1059D2-9250-4D18-810E-BC5447BE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482DE2-7179-416B-A0CC-38154693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2EF641-831A-4448-A8C4-289770B9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084885-2538-4280-A75A-CC70CC02A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195D71-D0AE-491D-BD01-B1205F8F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DA4DC3-1839-4C79-B123-460F723FD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C593-D788-4BDC-A44A-27F70B34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94CF1E-33E2-4068-8FFD-AD762646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6D33EE-CE3E-49F2-9493-146A065C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03F4A1-C171-4365-BDD7-F9813FA6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954391-35FC-4020-B76C-953BD5A9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643261-A339-44A2-8A7A-2B3B2E9D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6159CA-8671-488F-B26F-5832D06E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5C575A-079E-4370-8448-CE4AD184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B1C926-B01F-44AE-AC31-10B53754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C9B0A3-054C-413D-B8AA-3F56D252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1BACB4-29F3-4737-96D1-908CC4A41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889A-382A-4FBD-8427-86097260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9CCDA6-4D06-4360-BD0E-03902B5B2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7159-6A2A-455B-ACEE-3D84FE55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BD60-BD94-4AA9-9400-794F7E1F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6F23-F858-4CE6-BEE5-C6F8FC3B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8C77-6337-4C9C-977B-A3A47C9E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061E-E33B-4EB8-9074-790CBFA2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4829-E196-4F54-A8F9-9CB0E09B4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F80D-E04F-4438-AEB8-E8657CDEA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C756D-476D-45A8-8094-87B7A603D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8B26C-B151-49BC-AF08-19746FC6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E211F-90A6-43D0-BA3A-4032B49A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1D6BE-C8CF-4C87-BFA9-B4D8C1C8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2A0A0-15B0-4F2E-9145-B7679358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8807-0EA7-42D8-907A-43D846EA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76D76-CA02-4DDE-9E43-2B8C8680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FC754-17A3-4DDC-BAE6-CBCBCA14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D9811-E527-42E1-834D-4CCDDAB4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9221D-C75A-4B53-B647-D7F42EA2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64A93-ABD7-4A57-8854-2828B8A3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CAA19-2793-4A48-A95D-FBC0FAF54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D6601-D60D-4452-8136-7546BB8CB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FC422-8B05-49AC-A878-FDBF5A094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E0163-25A3-48AD-933E-BFBC8FE2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1F020-3539-4A9E-9960-1833F8FB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F4EF-A1DC-4365-8A59-4C40D332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47E15-4ED6-4D83-B739-65817866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8A19E-4342-4B37-9AB4-86339208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D197B-362B-4AB0-92A3-4C226010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DBAA3-BE04-4467-B57D-F6421A70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A89C0-C379-46E0-A10D-D92AF18B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FF602-891D-4FF6-97AA-AAF347AB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72A10-A831-4F61-8A4F-6FAB8E86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C3CF5-7101-46E2-BF27-F287483B0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3A8C4-DAE4-46B9-A71D-C15A85E2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364F9-8CAC-410C-A000-60319F867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E393-1E05-4582-B22D-97AD12E4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A4DF1-A9CC-47BC-8FF9-F3D9DEC0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8D1DC-9620-437F-98E1-EB05480E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6B68E-D589-4DD7-AD4F-16286220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37FB8-1B1A-471D-BF2F-57FE9856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4E57D-C23F-4E09-90E2-74247D45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E6905-3E94-4B8F-8C81-C9CB8E6C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EBF6A-6DAF-4237-8BC3-7BF496E2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9A9F6-4186-4C0A-8311-6B9836E3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4FE8D-556C-4D54-A166-BC3F2FFB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21C19-4CA1-4A4A-A64C-1187389CE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70ED-2D19-4AA7-9D76-C7A17F81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C7D9F-137F-4688-9892-D7D15B5C5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F18A8-FEB7-4BDE-9483-D6365F94B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377A1-B336-4B7A-ADB2-1F4F7DB7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F4B3F-6214-4CC1-8EBC-FD98696C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02475-CE29-476D-8B46-039D1A19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5C677-8DD3-40BE-98C0-CC611FAC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3A383-DD4F-4CDA-ACB9-1FAC8FAC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F2064-0796-434A-A14D-7D021CAD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42F52-E4F7-40BE-95A7-9D9F71E2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2CEAE-2629-4DB9-8022-382AFD4E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1405-FA03-4170-AE0D-F56AAB4E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51347-CC77-4BCD-981E-C2EB216A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CB706-80A7-4D42-BA6C-5617F014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71E0B-F4B8-450C-884D-7CA367767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E75BE-288A-4B02-9723-36C3FB6C8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60003-DD72-4E0E-9B1F-769CF405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0721B-733F-4C2A-8A8D-133BD691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3F1AC-D3AB-4BA2-A267-F3593621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72679-334F-4772-BF21-C3F84055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3D0AC-BF75-4371-A405-2CF78047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4E291-DB85-41EE-863A-8F240914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AE47-CDB5-4936-8031-715027A6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1F9CC-92F3-4C8E-B4CE-A7C78CA6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E5B6A-109B-45CD-BD3A-C48CDF99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A9364-DDCC-4E56-ADAD-751D717B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B5E72-B1B1-4775-990A-6F59C5DAB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4178B-F001-4254-8A46-DE4E5532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77B6B-C8AC-4C28-87D5-B95BA13EB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70C69-D516-4D15-8A65-5DA65C83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C2C92-CDC8-4A59-A31E-085E8C88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73601-CDB0-4CCF-98E7-314C9E71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79271-8C45-451A-94E3-A4C4F25E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27C6-EF37-4368-A2DB-D5BE570B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41160" y="108000"/>
            <a:ext cx="7856280" cy="60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D3E94-624B-4178-8892-298505BA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C12AD-ED6C-478D-9826-8FC9BAC9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241A0-B3F9-4FFC-B59B-B37682B3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FC5AA-C282-408B-8E98-DBC61C04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18840" y="4023000"/>
            <a:ext cx="787860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EB682-24E0-4B73-A1B3-AA072CCD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55880" y="159984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884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55880" y="4023000"/>
            <a:ext cx="38444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2EAC3-D082-451E-BC07-CD3014C11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82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46480" y="159984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1884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82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46480" y="4023000"/>
            <a:ext cx="2536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C2993-CF58-43DB-A4C4-6D1DAE537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9B5EC-7BA1-46D5-B74C-28CAF0BEF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64E320-0C9F-4E3C-8341-47772169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9C7A9-4182-49F7-8862-7282D5C6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11060C-A950-43A6-A0B8-4D1FCE5F5F0A}" type="datetime">
              <a:rPr b="0" lang="en-US" sz="1100" spc="-1" strike="noStrike">
                <a:solidFill>
                  <a:srgbClr val="bfbfbf"/>
                </a:solidFill>
                <a:latin typeface="Corbe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87D70C-2354-457F-AC39-0F0C2FF32812}" type="slidenum">
              <a:rPr b="0" lang="en-US" sz="1100" spc="-1" strike="noStrike">
                <a:solidFill>
                  <a:srgbClr val="bfbfbf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reeform 6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F97B80-E8C8-4389-B1E1-236C626EA2CF}" type="datetime">
              <a:rPr b="0" lang="en-US" sz="1100" spc="-1" strike="noStrike">
                <a:solidFill>
                  <a:srgbClr val="bfbfbf"/>
                </a:solidFill>
                <a:latin typeface="Corbe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110E6D-C68B-41AC-97C5-B77724889AB4}" type="slidenum">
              <a:rPr b="0" lang="en-US" sz="1100" spc="-1" strike="noStrike">
                <a:solidFill>
                  <a:srgbClr val="bfbfbf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reeform 6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75E00A-946E-41C5-8AC6-0F3A18A26EDD}" type="datetime">
              <a:rPr b="0" lang="en-US" sz="1100" spc="-1" strike="noStrike">
                <a:solidFill>
                  <a:srgbClr val="bfbfbf"/>
                </a:solidFill>
                <a:latin typeface="Corbe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B71270-465E-419A-9CF3-715A235E8CF6}" type="slidenum">
              <a:rPr b="0" lang="en-US" sz="1100" spc="-1" strike="noStrike">
                <a:solidFill>
                  <a:srgbClr val="bfbfbf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238386-92CF-4A01-885F-9BD5E0C0A2ED}" type="datetime">
              <a:rPr b="0" lang="en-US" sz="1100" spc="-1" strike="noStrike">
                <a:solidFill>
                  <a:srgbClr val="bfbfbf"/>
                </a:solidFill>
                <a:latin typeface="Corbe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F1C7E2-AEDC-4574-8702-74B3BB7B5D96}" type="slidenum">
              <a:rPr b="0" lang="en-US" sz="1100" spc="-1" strike="noStrike">
                <a:solidFill>
                  <a:srgbClr val="bfbfbf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reeform 6"/>
          <p:cNvSpPr/>
          <p:nvPr/>
        </p:nvSpPr>
        <p:spPr>
          <a:xfrm>
            <a:off x="281160" y="25884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7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970035-0BE9-46F0-83C9-8D2EE8F5AAD8}" type="datetime">
              <a:rPr b="0" lang="en-US" sz="1100" spc="-1" strike="noStrike">
                <a:solidFill>
                  <a:srgbClr val="bfbfbf"/>
                </a:solidFill>
                <a:latin typeface="Corbe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8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9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48ABE1-C788-4AE6-81B9-472FF0B4E7C4}" type="slidenum">
              <a:rPr b="0" lang="en-US" sz="1100" spc="-1" strike="noStrike">
                <a:solidFill>
                  <a:srgbClr val="bfbfbf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1BC0A6-C8FC-412B-A8E3-6F465A552E9E}" type="slidenum">
              <a:rPr b="0" lang="en-US" sz="1100" spc="-1" strike="noStrike">
                <a:solidFill>
                  <a:srgbClr val="bfbfbf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4AA614-D9C4-40D4-9CEE-CD3FA7F0B9D0}" type="slidenum">
              <a:rPr b="0" lang="en-US" sz="1100" spc="-1" strike="noStrike">
                <a:solidFill>
                  <a:srgbClr val="bfbfbf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6" descr=""/>
          <p:cNvPicPr/>
          <p:nvPr/>
        </p:nvPicPr>
        <p:blipFill>
          <a:blip r:embed="rId3"/>
          <a:stretch/>
        </p:blipFill>
        <p:spPr>
          <a:xfrm>
            <a:off x="603360" y="1427040"/>
            <a:ext cx="7937280" cy="6546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D14840-30C6-4732-9BF7-BF7C842A5162}" type="datetime">
              <a:rPr b="0" lang="en-US" sz="1100" spc="-1" strike="noStrike">
                <a:solidFill>
                  <a:srgbClr val="bfbfbf"/>
                </a:solidFill>
                <a:latin typeface="Corbe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FBF6F6-C631-41C3-B720-ED7AEA53D71C}" type="slidenum">
              <a:rPr b="0" lang="en-US" sz="1100" spc="-1" strike="noStrike">
                <a:solidFill>
                  <a:srgbClr val="bfbfbf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D6BDE6-3E15-40E4-AD3A-46157BCA181C}" type="datetime">
              <a:rPr b="0" lang="en-US" sz="1100" spc="-1" strike="noStrike">
                <a:solidFill>
                  <a:srgbClr val="bfbfbf"/>
                </a:solidFill>
                <a:latin typeface="Corbe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A6608A-70A4-432E-B23A-EF3A9C0366E1}" type="slidenum">
              <a:rPr b="0" lang="en-US" sz="1100" spc="-1" strike="noStrike">
                <a:solidFill>
                  <a:srgbClr val="bfbfbf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D9B048-A783-46BD-A1CD-67C2930261FB}" type="datetime">
              <a:rPr b="0" lang="en-US" sz="1100" spc="-1" strike="noStrike">
                <a:solidFill>
                  <a:srgbClr val="bfbfbf"/>
                </a:solidFill>
                <a:latin typeface="Corbe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04877F-517B-4214-B30D-FE913EC028F8}" type="slidenum">
              <a:rPr b="0" lang="en-US" sz="1100" spc="-1" strike="noStrike">
                <a:solidFill>
                  <a:srgbClr val="bfbfbf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CD4C75-FC1D-45AF-8785-F48189167446}" type="datetime">
              <a:rPr b="0" lang="en-US" sz="1100" spc="-1" strike="noStrike">
                <a:solidFill>
                  <a:srgbClr val="bfbfbf"/>
                </a:solidFill>
                <a:latin typeface="Corbe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DF5905-4C0F-4D7B-AE10-251D8D1EA9E3}" type="slidenum">
              <a:rPr b="0" lang="en-US" sz="1100" spc="-1" strike="noStrike">
                <a:solidFill>
                  <a:srgbClr val="bfbfbf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reeform 6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Freeform 8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Freeform 9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Freeform 10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Freeform 11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Freeform 12"/>
          <p:cNvSpPr/>
          <p:nvPr/>
        </p:nvSpPr>
        <p:spPr>
          <a:xfrm>
            <a:off x="281160" y="152568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Freeform 13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E410D6-355D-4055-AF86-B079EDA42645}" type="datetime">
              <a:rPr b="0" lang="en-US" sz="1100" spc="-1" strike="noStrike">
                <a:solidFill>
                  <a:srgbClr val="bfbfbf"/>
                </a:solidFill>
                <a:latin typeface="Corbe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425C8D-5BD6-4DB3-9654-D58EE20246FF}" type="slidenum">
              <a:rPr b="0" lang="en-US" sz="1100" spc="-1" strike="noStrike">
                <a:solidFill>
                  <a:srgbClr val="bfbfbf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reeform 6"/>
          <p:cNvSpPr/>
          <p:nvPr/>
        </p:nvSpPr>
        <p:spPr>
          <a:xfrm>
            <a:off x="281160" y="25884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E2B733-56EA-437C-83EB-B9C4A497BF43}" type="datetime">
              <a:rPr b="0" lang="en-US" sz="1100" spc="-1" strike="noStrike">
                <a:solidFill>
                  <a:srgbClr val="bfbfbf"/>
                </a:solidFill>
                <a:latin typeface="Corbe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E34860-E6B7-4E52-B958-72E2BF8A8E6C}" type="slidenum">
              <a:rPr b="0" lang="en-US" sz="1100" spc="-1" strike="noStrike">
                <a:solidFill>
                  <a:srgbClr val="bfbfbf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reeform 6"/>
          <p:cNvSpPr/>
          <p:nvPr/>
        </p:nvSpPr>
        <p:spPr>
          <a:xfrm>
            <a:off x="281160" y="25884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Freeform 7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32E544-283D-4A38-9BAE-83AA199580AB}" type="datetime">
              <a:rPr b="0" lang="en-US" sz="1100" spc="-1" strike="noStrike">
                <a:solidFill>
                  <a:srgbClr val="bfbfbf"/>
                </a:solidFill>
                <a:latin typeface="Corbe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A0B9E8-E1F5-4587-A15D-E00E9C932BF1}" type="slidenum">
              <a:rPr b="0" lang="en-US" sz="1100" spc="-1" strike="noStrike">
                <a:solidFill>
                  <a:srgbClr val="bfbfbf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Freeform 6"/>
          <p:cNvSpPr/>
          <p:nvPr/>
        </p:nvSpPr>
        <p:spPr>
          <a:xfrm>
            <a:off x="281160" y="6399360"/>
            <a:ext cx="8557920" cy="360"/>
          </a:xfrm>
          <a:prstGeom prst="pie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68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63600" indent="-295200">
              <a:spcBef>
                <a:spcPts val="20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62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0B0633-927A-4A49-8E4A-73B990878167}" type="datetime">
              <a:rPr b="0" lang="en-US" sz="1100" spc="-1" strike="noStrike">
                <a:solidFill>
                  <a:srgbClr val="bfbfbf"/>
                </a:solidFill>
                <a:latin typeface="Corbe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2808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80773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B040EB-BAFC-4807-B755-80146F4EFB60}" type="slidenum">
              <a:rPr b="0" lang="en-US" sz="1100" spc="-1" strike="noStrike">
                <a:solidFill>
                  <a:srgbClr val="bfbfbf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Title 1" descr=""/>
          <p:cNvPicPr/>
          <p:nvPr/>
        </p:nvPicPr>
        <p:blipFill>
          <a:blip r:embed="rId2"/>
          <a:stretch/>
        </p:blipFill>
        <p:spPr>
          <a:xfrm>
            <a:off x="652320" y="1530360"/>
            <a:ext cx="783936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29200" y="-37188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arbon Cycle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0" y="8064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 u="sng">
                <a:solidFill>
                  <a:srgbClr val="ffffff"/>
                </a:solidFill>
                <a:uFillTx/>
                <a:latin typeface="Corbel"/>
              </a:rPr>
              <a:t>Animals get carbon from the plants and other animals they eat.</a:t>
            </a:r>
            <a:endParaRPr b="0" lang="en-US" sz="4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-111240" y="108000"/>
            <a:ext cx="785664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arbon Cycle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217440" y="3622320"/>
            <a:ext cx="892656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5160" indent="-33516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ffff"/>
                </a:solidFill>
                <a:uFillTx/>
                <a:latin typeface="Corbel"/>
              </a:rPr>
              <a:t>Plants and animals release carbon dioxide into the air during cellular respiration.</a:t>
            </a:r>
            <a:endParaRPr b="0" lang="en-US" sz="5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Let’s Practice…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1028520" indent="-1028520">
              <a:spcBef>
                <a:spcPts val="2001"/>
              </a:spcBef>
              <a:buClr>
                <a:srgbClr val="ffffff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rbel"/>
              </a:rPr>
              <a:t>How do animals get carbon?</a:t>
            </a:r>
            <a:endParaRPr b="0" lang="en-US" sz="5000" spc="-1" strike="noStrike">
              <a:solidFill>
                <a:srgbClr val="ffffff"/>
              </a:solidFill>
              <a:latin typeface="Corbel"/>
            </a:endParaRPr>
          </a:p>
          <a:p>
            <a:pPr marL="1028520" indent="-1028520">
              <a:spcBef>
                <a:spcPts val="2001"/>
              </a:spcBef>
              <a:buClr>
                <a:srgbClr val="ffffff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rbel"/>
              </a:rPr>
              <a:t>Does cellular respiration take carbon dioxide out of the air or put carbon dioxide into the air?</a:t>
            </a:r>
            <a:endParaRPr b="0" lang="en-US" sz="5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arbon Cycle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0" y="3622680"/>
            <a:ext cx="9144000" cy="29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ffffff"/>
                </a:solidFill>
                <a:uFillTx/>
                <a:latin typeface="Corbel"/>
              </a:rPr>
              <a:t>Decaying plants, animals, and phytoplankton turn into fossil fuels after millions of years.</a:t>
            </a:r>
            <a:endParaRPr b="0" lang="en-US" sz="45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arbon Cycle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0" y="3622680"/>
            <a:ext cx="9067680" cy="29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 u="sng">
                <a:solidFill>
                  <a:srgbClr val="ffffff"/>
                </a:solidFill>
                <a:uFillTx/>
                <a:latin typeface="Corbel"/>
              </a:rPr>
              <a:t>Fossil fuels like coal, oil, and natural gas release carbon dioxide back into the air when they are burned in cars and factories.</a:t>
            </a:r>
            <a:endParaRPr b="0" lang="en-US" sz="4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Let’s Practice…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1028520" indent="-1028520">
              <a:spcBef>
                <a:spcPts val="2001"/>
              </a:spcBef>
              <a:buClr>
                <a:srgbClr val="ffffff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rbel"/>
              </a:rPr>
              <a:t>What do decaying plants and animals turn into after millions of years?</a:t>
            </a:r>
            <a:endParaRPr b="0" lang="en-US" sz="5000" spc="-1" strike="noStrike">
              <a:solidFill>
                <a:srgbClr val="ffffff"/>
              </a:solidFill>
              <a:latin typeface="Corbel"/>
            </a:endParaRPr>
          </a:p>
          <a:p>
            <a:pPr marL="1028520" indent="-1028520">
              <a:spcBef>
                <a:spcPts val="2001"/>
              </a:spcBef>
              <a:buClr>
                <a:srgbClr val="ffffff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rbel"/>
              </a:rPr>
              <a:t>What happens when fossil fuels are burned?</a:t>
            </a:r>
            <a:endParaRPr b="0" lang="en-US" sz="5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307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2.5 The Carbon Cycle: Independent Practice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Corbel"/>
              </a:rPr>
              <a:t>Homework – Draw a picture of the carbon cycle; this will be counted in your next binder grade.</a:t>
            </a:r>
            <a:endParaRPr b="0" lang="en-US" sz="5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Bellringer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rbel"/>
              </a:rPr>
              <a:t>What is photosynthesis?    </a:t>
            </a:r>
            <a:endParaRPr b="0" lang="en-US" sz="5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Agenda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nticipatory Se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Bellringer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Agenda and announcement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601"/>
              </a:spcBef>
              <a:buClr>
                <a:srgbClr val="a6a6a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Big goal connectio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put, Modeling, and Cfu’s: the carbon cycl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Guided Practice: team work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dependent Practice: handou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os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2017440"/>
            <a:ext cx="7772400" cy="16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2.5 The Carbon Cycle: Class Notes</a:t>
            </a:r>
            <a:endParaRPr b="0" lang="en-US" sz="6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The Carbon Cycle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 u="sng">
                <a:solidFill>
                  <a:srgbClr val="ffffff"/>
                </a:solidFill>
                <a:uFillTx/>
                <a:latin typeface="Corbel"/>
              </a:rPr>
              <a:t>The carbon cycle is the journey that carbon takes into and out of the air.</a:t>
            </a:r>
            <a:endParaRPr b="0" lang="en-US" sz="6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Let’s Practice…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orbel"/>
              </a:rPr>
              <a:t>What is the carbon cycle?</a:t>
            </a:r>
            <a:endParaRPr b="0" lang="en-US" sz="6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36760" y="108000"/>
            <a:ext cx="392580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arbon Cycle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98600" y="3622680"/>
            <a:ext cx="842328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ffffff"/>
                </a:solidFill>
                <a:uFillTx/>
                <a:latin typeface="Corbel"/>
              </a:rPr>
              <a:t>Carbon dioxide is taken out of the air by plants during photosynthesis.</a:t>
            </a:r>
            <a:endParaRPr b="0" lang="en-US" sz="45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75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Phytoplankton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-360" y="952560"/>
            <a:ext cx="885996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ffffff"/>
                </a:solidFill>
                <a:uFillTx/>
                <a:latin typeface="Corbel"/>
              </a:rPr>
              <a:t>Single-celled organisms called phytoplankton live in the oceans and take carbon dioxide out of the air.</a:t>
            </a:r>
            <a:endParaRPr b="0" lang="en-US" sz="4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41160" y="108000"/>
            <a:ext cx="785628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Let’s Practice…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618840" y="1599840"/>
            <a:ext cx="7878600" cy="46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1. What process do plants use that takes carbon dioxide out the air?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2. Other than plants, what else takes carbon dioxide out of the air?  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3. Where do they live?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2:55:04Z</dcterms:created>
  <dc:creator>Caroline Roth</dc:creator>
  <dc:description/>
  <dc:language>en-US</dc:language>
  <cp:lastModifiedBy>Caroline Roth</cp:lastModifiedBy>
  <dcterms:modified xsi:type="dcterms:W3CDTF">2011-05-23T23:08:06Z</dcterms:modified>
  <cp:revision>14</cp:revision>
  <dc:subject/>
  <dc:title>2.5 Carbon Cycle</dc:title>
</cp:coreProperties>
</file>